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11040" y="744120"/>
            <a:ext cx="257508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908C-A394-4651-B49C-F825FB8BFF1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2111400" y="744480"/>
            <a:ext cx="2575080" cy="372276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70A5-7CA7-4D0F-8B61-5FCC4998654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47EB-2D25-45F5-BF8D-D2EDD6E4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63FB-1CD4-4BAC-8C72-FA012C14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35B4-2229-44EA-BC46-A81D845C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210F-AB2C-4484-98F5-CA1040C8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1CBB-B0AF-4A20-82A8-DFFEABAA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040D-647D-496E-A2FC-C212FE6D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35FC-1F9F-45B9-BD0F-D61E67C7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C019-B129-4B24-9ECF-0DC8DCA8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CACC-6FC7-45A5-B6CD-DC74C412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C3DB-EB4E-474A-9648-5FC39E3A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33BB-80BE-49C1-B080-39C96CCF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63FA-407E-4EC3-A03B-B7127E5F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B90C-7A62-481A-847B-73488CC9A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9566280"/>
            <a:ext cx="669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G-201-01                                                 A4(210X297mm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84"/>
          <p:cNvSpPr/>
          <p:nvPr/>
        </p:nvSpPr>
        <p:spPr>
          <a:xfrm>
            <a:off x="0" y="162072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製品仕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81080" y="4083120"/>
          <a:ext cx="6472080" cy="5333760"/>
        </p:xfrm>
        <a:graphic>
          <a:graphicData uri="http://schemas.openxmlformats.org/drawingml/2006/table">
            <a:tbl>
              <a:tblPr/>
              <a:tblGrid>
                <a:gridCol w="1735200"/>
                <a:gridCol w="4736880"/>
              </a:tblGrid>
              <a:tr h="430200">
                <a:tc gridSpan="2">
                  <a:txBody>
                    <a:bodyPr lIns="126000" rIns="126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仕         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26000" marR="12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600">
                <a:tc>
                  <a:txBody>
                    <a:bodyPr lIns="181800" rIns="181800" tIns="32400" bIns="32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電      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1800" marR="1818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81800" rIns="181800" tIns="32400" bIns="32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AC100~250VAC, 50/60H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1800" marR="1818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80880">
                <a:tc>
                  <a:txBody>
                    <a:bodyPr lIns="181800" rIns="181800" tIns="32400" bIns="32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環境条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1800" marR="1818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81800" rIns="181800" tIns="32400" bIns="32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-20~60°C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。本体防塵防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IP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1800" marR="1818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88800">
                <a:tc rowSpan="2">
                  <a:txBody>
                    <a:bodyPr lIns="181800" rIns="181800" tIns="32400" bIns="32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寸     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1800" marR="1818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81800" rIns="181800" tIns="32400" bIns="32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Control Box : 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別途記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1800" marR="1818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8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1800" rIns="181800" tIns="32400" bIns="32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Signeon 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本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: 1,000 x 500 x 75 (W x H x t, Unit: mm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1800" marR="1818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88800">
                <a:tc rowSpan="2">
                  <a:txBody>
                    <a:bodyPr lIns="181800" rIns="181800" tIns="32400" bIns="32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質     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1800" marR="1818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81800" rIns="181800" tIns="32400" bIns="32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Control Box : 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別途記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1800" marR="1818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8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1800" rIns="181800" tIns="32400" bIns="32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Signeon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本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: 14 k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1800" marR="1818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9160">
                <a:tc>
                  <a:txBody>
                    <a:bodyPr lIns="181800" rIns="181800" tIns="32400" bIns="32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入力方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1800" marR="1818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81800" rIns="181800" tIns="32400" bIns="32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Ethernet(LAN) : Integrated IEEE 802.3 MAC and 10 BASE-T PH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Fully compatible with 100/1000 BASE-T networ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1800" marR="1818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0600">
                <a:tc rowSpan="3">
                  <a:txBody>
                    <a:bodyPr lIns="181800" rIns="181800" tIns="32400" bIns="32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ディスプレイパネル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1800" marR="1818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81800" rIns="181800" tIns="32400" bIns="32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Pixel Pitch : 3.91mmPit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1800" marR="1818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1800" rIns="181800" tIns="32400" bIns="32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輝   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: 5,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５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00 n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1800" marR="1818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1800" rIns="181800" tIns="32400" bIns="32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視野角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: 1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度（水平、垂直とも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1800" marR="1818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7120">
                <a:tc rowSpan="2">
                  <a:txBody>
                    <a:bodyPr lIns="181800" rIns="181800" tIns="32400" bIns="32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消費電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1800" marR="1818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81800" rIns="181800" tIns="32400" bIns="32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最大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400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1800" marR="1818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1800" rIns="181800" tIns="32400" bIns="32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PSE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認証済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1800" marR="1818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81080" y="177840"/>
          <a:ext cx="6468840" cy="1203120"/>
        </p:xfrm>
        <a:graphic>
          <a:graphicData uri="http://schemas.openxmlformats.org/drawingml/2006/table">
            <a:tbl>
              <a:tblPr/>
              <a:tblGrid>
                <a:gridCol w="1368360"/>
                <a:gridCol w="3166920"/>
                <a:gridCol w="865440"/>
                <a:gridCol w="1068120"/>
              </a:tblGrid>
              <a:tr h="32004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製 品 仕 様 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モデル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HOS39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提 出 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023. 3. 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モデル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: HDMI in Signe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Ver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P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52" name="図 1" descr=""/>
          <p:cNvPicPr/>
          <p:nvPr/>
        </p:nvPicPr>
        <p:blipFill>
          <a:blip r:embed="rId1"/>
          <a:srcRect l="10455" t="17029" r="9388" b="22433"/>
          <a:stretch/>
        </p:blipFill>
        <p:spPr>
          <a:xfrm>
            <a:off x="765000" y="1916280"/>
            <a:ext cx="535968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2T08:59:01Z</dcterms:created>
  <dc:creator>블루투스</dc:creator>
  <dc:description/>
  <dc:language>en-US</dc:language>
  <cp:lastModifiedBy>イソンジャパン株式会社</cp:lastModifiedBy>
  <cp:lastPrinted>2020-03-31T06:35:31Z</cp:lastPrinted>
  <dcterms:modified xsi:type="dcterms:W3CDTF">2023-03-22T04:09:41Z</dcterms:modified>
  <cp:revision>403</cp:revision>
  <dc:subject/>
  <dc:title>슬라이드 제목 없음</dc:title>
</cp:coreProperties>
</file>